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1E3-4AF5-48AF-923E-3E5A31F4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945-AC9E-489F-A329-51318A0B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913-88C6-4489-A543-1B7509B7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B33-77B6-4EF8-B2D8-27B9EC81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96D-E08B-44B3-A365-A1493E4B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C50-BE62-4DCF-8F1E-AA2687AA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C3C-04D1-42AF-AF04-C5E17BD8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6F1-B0C0-4F16-9884-DFEE2FBC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29C-678D-4386-B080-5693B3BB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0F8-B0A5-45BC-A6EA-FD6D90E4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F61-DF5F-46AE-B1F9-1772547C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0B7-4309-4D79-AEAA-BEC1D40A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6A99-8786-4B21-92A5-F8162F5F3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C5E-1E44-40FB-B7BE-2A58193CFD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ěkterá témata kur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čemu je dobrý MS Ac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čemu jsou dobré relační databáze a co to vůbec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nám v praxi může MS Access usnadnit živ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edevším: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Jak se s MS Accessem pracu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7C3-EA28-4FAC-AC06-87DDEDDAB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slouží pro správu databází. Co je to tedy databá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áze je systém, ve kterém uchováváme informace a ze kterého tyto informace můžeme získáv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klady databází: telefonní seznam, jízdní řády, seznam knih v knihovně, seznam prodávaného zboží v obchodě 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2BE-8D46-42AD-9ACA-1175B0CC7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é jsou druhy databází?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lnotextová (fulltextová) databáz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70828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aší firmě prodáváme různá auta. V nabídce máme například Opel Astra z roku 1992 za 250 000 Kč nebo dva Fordy Mondeo. Ten z roku 2002 stojí 250 000 Kč, ten druhý, levnější je z roku 199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5400" y="4941720"/>
            <a:ext cx="65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ěmito databázemi se dále nebudeme zabýva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87D-3F92-467A-87E6-66C8A96D1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ké jsou druhy databází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ční databáze (velmi jednoduchá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484280"/>
          <a:ext cx="8229600" cy="4695840"/>
        </p:xfrm>
        <a:graphic>
          <a:graphicData uri="http://schemas.openxmlformats.org/drawingml/2006/table">
            <a:tbl>
              <a:tblPr/>
              <a:tblGrid>
                <a:gridCol w="2743200"/>
                <a:gridCol w="2009880"/>
                <a:gridCol w="1871640"/>
                <a:gridCol w="1604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dveř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 výro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nd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l As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Octav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Monde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at Temp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A39-5324-478F-A350-AD2D2752F7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ční databázi  (dále jen databázi) si tedy můžeme představit jak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bulku nebo soustavu propojených tabul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Řádky – jednotlivé záznamy (jednotliví zaměstnan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upce – vlastnosti  těchto záznamů (jméno, příjmení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A6E8-BD5E-492E-BA36-ECDB0C39F2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ěkolik pravidel tvorby databáz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ka nezahrnuje odvozená data (př. v jednom sloupci rodné číslo a ve druhém datum naroz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řádků by měly jít vepsat jen údaje, které sem logicky patř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ulka musí mít primární klí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57D-D417-4F30-809F-AC9FC2F3D5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čím se setkáváme v databá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57708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ul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ář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st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6DC-EC1D-4833-B77A-07F0F84DD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cess 2000 – David Mor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cess 2000 – Ivo Fikáček, Ivo Rozehnal, Martin Fik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BAB-570D-4079-8BF0-86A1CF98A8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1:11:27Z</dcterms:created>
  <dc:creator>Poč.učebny</dc:creator>
  <dc:description/>
  <dc:language>en-US</dc:language>
  <cp:lastModifiedBy>Jiří Beran</cp:lastModifiedBy>
  <dcterms:modified xsi:type="dcterms:W3CDTF">2006-04-20T22:18:52Z</dcterms:modified>
  <cp:revision>4</cp:revision>
  <dc:subject/>
  <dc:title>Microsoft Access</dc:title>
</cp:coreProperties>
</file>